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D57-2711-45BF-BEBC-DE283DA4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801-7BD7-468C-913B-7F05A741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3C5-A560-45A6-AEC2-82C32ECD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282-4EAF-4914-B377-642CCFF9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549-01EE-4464-9180-A5D9AAE6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234-57D9-4941-8635-836EB56B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CBD-0CDE-4315-86DE-14D5579E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EF3-0600-43E0-A1A6-96BCF625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B2A-C8C2-4E40-A017-E1C13B3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B8C-0FC1-4D59-B37E-8B58DB6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FED-92FF-4CCB-AB33-981CD50D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A11-8DAE-4FE6-8442-EAD75E9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D931-85A9-4413-80A3-9E206B887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10.1.jpg"/>
          <p:cNvPicPr/>
          <p:nvPr/>
        </p:nvPicPr>
        <p:blipFill>
          <a:blip r:embed="rId1"/>
          <a:stretch/>
        </p:blipFill>
        <p:spPr>
          <a:xfrm>
            <a:off x="0" y="1501920"/>
            <a:ext cx="91440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10.2.jpg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10.3.jpg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10.4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10.5.jpg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Figure 10.1.jpg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Figure 10.2.jpg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Van Belle_4e_Figure 10.3.jpg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Van Belle_4e_Figure 10.4.jpg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9:32:54Z</dcterms:created>
  <dc:creator>conversion</dc:creator>
  <dc:description/>
  <dc:language>en-US</dc:language>
  <cp:lastModifiedBy>conversion</cp:lastModifiedBy>
  <dcterms:modified xsi:type="dcterms:W3CDTF">2015-01-14T09:34:19Z</dcterms:modified>
  <cp:revision>1</cp:revision>
  <dc:subject/>
  <dc:title>Slide 1</dc:title>
</cp:coreProperties>
</file>